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641-AD3B-4056-9E48-09D55F29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525-526C-4F96-810C-51215B33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A4F-6126-49EA-903B-9AA1A3EF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BE8-5D78-4C84-8B43-47241E1C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3412-275B-419D-A3D0-C06204FB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888F-6276-4573-A96A-54856051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A9B6-8E1D-4BA1-9BBA-BD188074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C2BF-FD64-485F-96EA-EA8BF692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30C7-3490-4177-BC9F-983DDC40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6C7C-897B-4DD7-B43A-C291C489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3550-DCC9-4681-A253-72B5893A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A8B-EFCC-4DAF-948B-A3C96F49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5EB1-98C2-469A-A89B-0B8864E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F05C-650F-4214-BCB2-54E0D11C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D3E6-5444-42B0-B6CC-A177694C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FC65-CEF1-41BF-8FFA-78E1F736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07F9-7E63-4687-A18A-B9F0BE34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A9E-1EBF-4938-8A25-39F6B3CE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22A-EAB3-4DFB-AF34-A773C1E8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0C0-E909-4F07-A6F2-1AB3876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315-31DC-4950-8B2D-ED4B2EF3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58F-913B-4E4D-A987-ED5BDA29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CFE-5146-4176-98BB-1ECE861A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125-79EA-4148-8AB0-45A8B48A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BA4E-1B0A-4B80-8AF8-5D3A22A45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62B4-0694-4EA6-ADA4-2EAB9330C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1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utbol catologo 2012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reg and Daks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2819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jamas de futbo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ijamas de futbol. Es colores en azul, blanco y negro. Cuasta 20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1638360" cy="2895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886200" y="3581280"/>
            <a:ext cx="13320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257800" y="3429000"/>
            <a:ext cx="3124080" cy="2550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1981080" y="3505320"/>
            <a:ext cx="1917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artera y sandalia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carteras de futbol. Son de arsenal y FCB .multiple sandalias de futbol. Son de ad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296040" y="3657600"/>
            <a:ext cx="2847960" cy="2065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114800" y="365760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ones y reloj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reloj son de MLS. Uno mitones de futbol. Son de N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8600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781680" y="33526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Biletes locales de ML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quetes de jue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game                2 games         3 game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pesos             60 pesos         10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00400" y="441972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5530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791320" y="228600"/>
            <a:ext cx="2095560" cy="1173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67480" y="1600200"/>
            <a:ext cx="1220760" cy="1628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838080" y="1523880"/>
            <a:ext cx="1206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na zapato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o messi lleva azul Adidas tacos de futbol. Los tacos cuatsta 16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18320" y="556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365760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400800" y="3276720"/>
            <a:ext cx="2209680" cy="266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2895480"/>
            <a:ext cx="1361880" cy="1381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miseta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camisetas de futbol. Son de Chivas USA, New england Revolution y FCB. Cuasta 50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276200" cy="134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5105520"/>
            <a:ext cx="1695600" cy="1009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133720" y="5105520"/>
            <a:ext cx="2124000" cy="99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858000" y="4724280"/>
            <a:ext cx="1790640" cy="1381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572000" y="4267080"/>
            <a:ext cx="2247840" cy="1791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80880" y="38862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2057400" y="3886200"/>
            <a:ext cx="2286000" cy="1247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lcetin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iple calcentines de futbol. Son de LA Galaxy (David Beckham). Colores en verde y blanco. Cuasta 3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33720" y="36576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300996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ntalones cort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 panatlones cortes de futbol. Son de BPL. Cuasta 45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5880" y="3581280"/>
            <a:ext cx="2772000" cy="212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419720" y="3581280"/>
            <a:ext cx="16761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lon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balons de futbol. Son de MLS y BPL. cuatsa 2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10080" y="304920"/>
            <a:ext cx="1562400" cy="1352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971800" y="3657600"/>
            <a:ext cx="1514520" cy="201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419720" y="3809880"/>
            <a:ext cx="1628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rras de M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gorras de MLS, San Jose, Chicago y Seatle. Cuasta 15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562720" y="2819520"/>
            <a:ext cx="3314520" cy="2771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28195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eter y guant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de MLS, Brazil y FCB. Cuasta 65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1749600" cy="2332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71800" y="3200400"/>
            <a:ext cx="228456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2019600" cy="2695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28600" y="3809880"/>
            <a:ext cx="2743200" cy="180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fanda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de MLS, multiple bufandas. 35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876920" cy="3711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9920" y="609480"/>
            <a:ext cx="2933640" cy="868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5049720"/>
            <a:ext cx="4191120" cy="960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00:46Z</dcterms:created>
  <dc:creator>fawkesgre</dc:creator>
  <dc:description/>
  <dc:language>en-US</dc:language>
  <cp:lastModifiedBy>fawkesgre</cp:lastModifiedBy>
  <dcterms:modified xsi:type="dcterms:W3CDTF">2013-01-04T17:53:53Z</dcterms:modified>
  <cp:revision>13</cp:revision>
  <dc:subject/>
  <dc:title>Slide 1</dc:title>
</cp:coreProperties>
</file>